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F76-1D1B-45C3-8F40-E6A6A1EB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986-A245-49C1-AFFC-9DF72484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EED-2C44-4549-AA78-45694345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8CC-E0AC-4281-A327-E3BDEFF3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182-63B1-428F-933E-517366A3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7BD-C2ED-43AE-9D4D-74728B8D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E67-56C6-48B8-8329-5971A52F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DED-582D-4819-A376-87055B03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2AD-70EB-426A-86A7-4DA92BC5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0A9-C8B5-4C79-B06F-B62BD710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453-1147-45E6-B100-4697100D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5EE-8D7D-4C59-A267-8E73AAF1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F9DE9-D8B2-4D53-8BC7-9C5CD0876B7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59000" y="1619280"/>
            <a:ext cx="7821360" cy="492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CIENT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Roman Republ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ome was founded in 625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ome only had 7 kings: after that, the people of Rome (called Romans) decided to govern themselves.  They created the Roman Republ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Roman Republic lasted for almost 500 years, until 23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62480" y="4859280"/>
            <a:ext cx="35575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R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ulius Caesar conquered Rome in 49 BC.  He was the dictator of Rome until he was mur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fter Caesar, there were many more Roman Emperors such as Augustus, Hadrian, and the famous Constant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0360" y="468000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672080"/>
            <a:ext cx="431964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Fall of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 the year 476 AD, Rome was conquered by the Visigoths.  They were from the North and East of Europ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he end of the Roman Empire came in 1453, when Constantinople, one of the most important cities in the Empire, was conquered by the Turk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9280" y="3959280"/>
            <a:ext cx="504036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ome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33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oman ruins can be found in many places, not just Rome.  There are many remains of Rome's great Empire, such as mosaics, coins, aqueducts, and even temp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ople called archaeologists dig up and study the Roman ruins to learn more about Roman socie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0720" y="5580000"/>
            <a:ext cx="1979640" cy="144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60720" y="558000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443560" y="5580000"/>
            <a:ext cx="229536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920000" y="5580000"/>
            <a:ext cx="197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10:12Z</dcterms:created>
  <dc:creator>manuel perujo</dc:creator>
  <dc:description/>
  <dc:language>en-US</dc:language>
  <cp:lastModifiedBy/>
  <cp:revision>1</cp:revision>
  <dc:subject/>
  <dc:title/>
</cp:coreProperties>
</file>